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77F-914D-4143-AF37-676D1EE2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5E6-73EC-491D-82E1-7DD516D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06F-AD27-40E8-8DE4-7FDC0B85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20-FE28-4597-B178-5831AB9E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B3C5-4B17-4891-ABB1-AA0456E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154-B1D0-4151-B051-5A530383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C1E-CA4C-4629-9376-2F5DB8B8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0FE4-B9C1-4217-9641-1B7B12B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B9A-CC0F-4901-AE3E-CEE7B6D1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006A-554A-4C9F-AFE9-FFA7AD6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3CF6-E3D5-44AD-821B-064A4E4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4FB-1F10-4624-A9E9-9C2075A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10D-BB78-431A-8808-377D2E0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0EB6-C98A-4488-BF74-4BCC2E5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2ED6-8900-4238-841D-E39BC724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AA1-89BB-4C2D-A4BD-A526FA5D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337F-A6D4-4FF0-9F78-D3DFA422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C1D-4BAD-42BC-80A2-E7E910BE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0E3-4479-4EEA-A091-6C959B3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29E-4216-4A52-82AB-67EEBAAE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01C-023C-405C-A7FB-A3EA128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C77-433C-4092-8CFD-1BDF844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EAE-831E-474C-9518-ED4D96F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0C1-9955-42C4-86E1-A294CA2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D58B-7A79-4C78-A0A8-76D41D655056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3B3-33AE-4B65-B25F-B661445A9B4C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External Storage Devic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62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monstrate the function of each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. Insert and find the storage device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. Move files from the device to the computer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Move files from the computer to the device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Safely remove the devic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will have about 25-30 minutes to work on thi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r job is to back up all the file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My Document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n this laptop car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 1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Break each group up into teams of 3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Distribute even number of laptops to the groups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Create a folder on the external device and name it according to each computer number that you have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4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Copy the information from the </a:t>
            </a:r>
            <a:r>
              <a:rPr b="1" i="1" lang="en-US" sz="2500" spc="-1" strike="noStrike">
                <a:solidFill>
                  <a:srgbClr val="212164"/>
                </a:solidFill>
                <a:latin typeface="Arial"/>
              </a:rPr>
              <a:t>My documents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folder to the proper folder you created.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5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Repeat for each computer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e group will demonstrate how to back up data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lected students will share particularly good examples of how files were stor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ion about focus question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ips and Trick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is an external storage devi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does it d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examples of external storage devi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differences in the devi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y are they importan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ow do you use one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pot Manager/Student Dialogu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ownload from the wiki –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12164"/>
                </a:solidFill>
                <a:uFillTx/>
                <a:latin typeface="Arial"/>
              </a:rPr>
              <a:t>http://oit.wikispaces.com/Backing+Up+Your+Work+Using+External+Device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2 Students Act out the scrip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point of thi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hat are the following device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hat do they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8339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556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017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941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2-01T22:49:25Z</dcterms:modified>
  <cp:revision>9</cp:revision>
  <dc:subject/>
  <dc:title>Workshop Title</dc:title>
</cp:coreProperties>
</file>